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3EBDE-3942-4CE3-BE1F-55FF58384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84326-1022-4A50-BD66-F4EA6F89D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210DD-1177-4BCE-8848-D4D6CEFC7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D21C7-1175-4232-8385-29CA9A0B3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9B0DB-BCF2-4B28-B123-544DA74FD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22668-DA49-41D9-AA18-5B152A60C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0E335-E513-41FD-92FB-AB52BDFC0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EEA7B-A26B-4FF2-8F7F-B1DB57D28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6E3E4-3979-4A43-A2C6-3683399A8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ECADD-7A03-40E6-82CE-8FFEBFA40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1CC24-F719-48B1-962A-015B2CB47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45B08-6A02-4551-9501-BFB831A04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7089F-69E8-492C-A1D2-BA4502CB3D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900000" y="260280"/>
            <a:ext cx="7382160" cy="8193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2060280"/>
            <a:ext cx="830088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Poznámky: </a:t>
            </a:r>
            <a:br>
              <a:rPr sz="2000"/>
            </a:br>
            <a:br>
              <a:rPr sz="2000"/>
            </a:b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1.   obrázek s logy je třeba umístit do záhlaví každého slidu</a:t>
            </a:r>
            <a:br>
              <a:rPr sz="2000"/>
            </a:br>
            <a:br>
              <a:rPr sz="2000"/>
            </a:b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2.   do prezentace není možno umístit loga jiných subjekt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4T12:09:00Z</dcterms:created>
  <dc:creator>pekarj</dc:creator>
  <dc:description/>
  <dc:language>en-US</dc:language>
  <cp:lastModifiedBy>pekarj</cp:lastModifiedBy>
  <dcterms:modified xsi:type="dcterms:W3CDTF">2009-08-14T05:40:16Z</dcterms:modified>
  <cp:revision>2</cp:revision>
  <dc:subject/>
  <dc:title>Poznámka: obrázek s logy je třeba umístit do záhlaví každého slidu</dc:title>
</cp:coreProperties>
</file>